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0DA-9252-4DE6-8F8A-9D1F006E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FEA-1504-4021-B492-C69B23FC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91C-EA1D-4166-B403-E6C613E4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9B4-3E7F-4CA5-BEBC-89C03021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6B2F-EB49-4E97-9CC2-AFAE42E6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DA78-FCBA-4C6A-963A-237C5316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45EC-F80C-427F-9C8C-D3AC50AA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E385-B194-4B3B-98E2-388279C3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7E67-564B-4B1C-995B-BE04E3D6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BEA5-9841-487A-8A2B-0C0B8E81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1C06-1485-44CE-AFFA-D806F6F4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6AC-CF82-4344-9DDE-2B31BCFF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4B91-5ED3-409E-BD47-1EDD7005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BE60-D1AA-43A9-876F-70876570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769F-B9DC-4A40-9EE3-C2AC1693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51B3-702D-4D73-A553-923AFBA1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F463-7114-4E8E-88FC-64B256B4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3DD4-C666-4ADB-BB31-1A980830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5B131-5D48-4BD4-B31B-0B737D76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0A42-DE8F-40F2-8640-829EA262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6A37-14A4-47F3-96D3-6FA1EE20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98A3D-4819-41B7-BE6F-45CFEAC6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23B-2C77-4E74-BCCB-95C1764D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A28AD-D3A1-417D-A1DB-0AD1AB41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66078-8403-42DF-A82E-22D9A16A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EFE7-C677-4682-BB58-DD7DB998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1261-949D-4AB1-A57E-1577E358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1FFD-93B4-427D-B721-CF266C9C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E6A5-C141-4BBA-AB7B-B4FA0A4C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EF663-9A3E-4EF1-8FAA-F32276B7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83939-D8E0-4D9F-9100-DBFAB5DD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DC104-F72C-4AB4-AA4C-A4B41664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9A3AE-2F48-47CC-8E6B-A402EC02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380-AA19-4145-86C1-C69B8CF0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531AB-A51A-4DED-84F1-E349D7A3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8431F-D14A-451A-B4F1-4E6534E2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592AB-49B3-4E18-B683-20351B11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C1210-557F-4C0F-A602-B0FC5E2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3ED8C-9CD6-408B-8055-05AC2411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36597-7B75-4AA2-B30C-5A065436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BE5EC-920A-4B60-85A0-3414EF63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AAD6B-C7BC-4F16-96B1-3CCDA82C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DCD19-A0D5-4327-B974-A69B74B5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2D445-F34F-43D3-B7FA-0C99A029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9E9-31F3-4040-98BF-67A309C8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DABEB-DDB4-4055-ABB8-DCB10CBA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EAAF5-7B98-40CF-81C0-7585D147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34493-37B7-499B-B6FA-61EEA4A0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22989-88EA-44A2-8347-D2C4F477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17FAC-1B69-478A-9ACB-C7F7B0CB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C6985-0B60-4581-859E-651622B1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ECD01-E05F-4CAE-8503-EE685BD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D1200-A885-49A0-8B7C-7D653942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EC25F-BBC9-498E-A8F8-849A3598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53566-83DD-4E9A-B95C-209B73D8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1BD-D9F2-4F3E-A47E-4F0C0941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8BF72-9FA7-4AB4-B1CC-19B5B13D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63E-26F9-42B4-AA7C-53ADAC88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813-D98D-437C-8378-E9A9B7E6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E40-83A6-45FE-B4A4-47E1F1BA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8A72-6850-44C3-BBE9-2EFF273FA2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608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4608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椭圆 4608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4608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4608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4608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4608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56AC-683F-457C-8E4F-A2CED3AEE6B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608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0" name="组合 4608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1" name="椭圆 4608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4608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4608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4608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4608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1772-98A4-46B8-9518-1841A7DADE3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4710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38" name="椭圆 4710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4710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4710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4710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4711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711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09A2-C25A-474F-A534-04AFE185304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4710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86" name="椭圆 4710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4710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4710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4710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4711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4711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79F3-102A-4018-A34B-E25ECC93EB2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372960" y="1913040"/>
            <a:ext cx="8651880" cy="1123560"/>
          </a:xfrm>
          <a:prstGeom prst="rect">
            <a:avLst/>
          </a:pr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居里夫人说：“世上最快乐的事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莫过于为理想奋斗。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张潮在随笔写道：“人莫乐于闲。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http://www.chhome.cn/upload/20141216/14186947457019.jpg"/>
          <p:cNvPicPr/>
          <p:nvPr/>
        </p:nvPicPr>
        <p:blipFill>
          <a:blip r:embed="rId1"/>
          <a:stretch/>
        </p:blipFill>
        <p:spPr>
          <a:xfrm>
            <a:off x="4016520" y="3133800"/>
            <a:ext cx="5008320" cy="2560680"/>
          </a:xfrm>
          <a:prstGeom prst="rect">
            <a:avLst/>
          </a:prstGeom>
          <a:ln w="0">
            <a:noFill/>
          </a:ln>
        </p:spPr>
      </p:pic>
      <p:pic>
        <p:nvPicPr>
          <p:cNvPr id="235" name="矩形 3" descr=""/>
          <p:cNvPicPr/>
          <p:nvPr/>
        </p:nvPicPr>
        <p:blipFill>
          <a:blip r:embed="rId2"/>
          <a:stretch/>
        </p:blipFill>
        <p:spPr>
          <a:xfrm>
            <a:off x="1506600" y="1057320"/>
            <a:ext cx="5859360" cy="768240"/>
          </a:xfrm>
          <a:prstGeom prst="rect">
            <a:avLst/>
          </a:prstGeom>
          <a:ln w="0">
            <a:noFill/>
          </a:ln>
        </p:spPr>
      </p:pic>
      <p:pic>
        <p:nvPicPr>
          <p:cNvPr id="236" name="矩形 5" descr=""/>
          <p:cNvPicPr/>
          <p:nvPr/>
        </p:nvPicPr>
        <p:blipFill>
          <a:blip r:embed="rId3"/>
          <a:stretch/>
        </p:blipFill>
        <p:spPr>
          <a:xfrm>
            <a:off x="317520" y="3133800"/>
            <a:ext cx="3643200" cy="23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65040" y="487440"/>
            <a:ext cx="839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4.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作者认为责任有种种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你能从课文中找出有哪几种责任吗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571680" y="19414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对人的责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571680" y="2612880"/>
            <a:ext cx="4295520" cy="52056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凡属我受过他好处的人，我对于他便有了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571680" y="3844800"/>
            <a:ext cx="33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对事的责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571680" y="4506840"/>
            <a:ext cx="4295520" cy="64836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凡属我应该做的事，而且力量能够做得到的，我对于这件事便有了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1" descr="12599141_103330390000_2"/>
          <p:cNvPicPr/>
          <p:nvPr/>
        </p:nvPicPr>
        <p:blipFill>
          <a:blip r:embed="rId1"/>
          <a:stretch/>
        </p:blipFill>
        <p:spPr>
          <a:xfrm>
            <a:off x="5284800" y="2392200"/>
            <a:ext cx="3479760" cy="3868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368280" y="6397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对自己的责任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374760" y="1617840"/>
            <a:ext cx="3487680" cy="72756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凡属我自己打主意要做一件事，便是现在的自己和将来的自己立了一种契约，便是自己对于自己加一层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5" descr="A181371078029083_change_JMRBA20613C001_b"/>
          <p:cNvPicPr/>
          <p:nvPr/>
        </p:nvPicPr>
        <p:blipFill>
          <a:blip r:embed="rId1"/>
          <a:stretch/>
        </p:blipFill>
        <p:spPr>
          <a:xfrm>
            <a:off x="4492800" y="1052640"/>
            <a:ext cx="3916080" cy="192852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7" descr="20160420002108431273743_910"/>
          <p:cNvPicPr/>
          <p:nvPr/>
        </p:nvPicPr>
        <p:blipFill>
          <a:blip r:embed="rId2"/>
          <a:stretch/>
        </p:blipFill>
        <p:spPr>
          <a:xfrm>
            <a:off x="4492800" y="3286080"/>
            <a:ext cx="3895560" cy="2859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2"/>
          <p:cNvSpPr/>
          <p:nvPr/>
        </p:nvSpPr>
        <p:spPr>
          <a:xfrm>
            <a:off x="262080" y="53640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隶书"/>
                <a:ea typeface="隶书"/>
              </a:rPr>
              <a:t>(</a:t>
            </a:r>
            <a:r>
              <a:rPr b="1" lang="zh-CN" sz="4800" spc="-1" strike="noStrike">
                <a:solidFill>
                  <a:srgbClr val="7030a0"/>
                </a:solidFill>
                <a:latin typeface="隶书"/>
                <a:ea typeface="隶书"/>
              </a:rPr>
              <a:t>二</a:t>
            </a:r>
            <a:r>
              <a:rPr b="1" lang="en-US" sz="4800" spc="-1" strike="noStrike">
                <a:solidFill>
                  <a:srgbClr val="7030a0"/>
                </a:solidFill>
                <a:latin typeface="隶书"/>
                <a:ea typeface="隶书"/>
              </a:rPr>
              <a:t>)</a:t>
            </a:r>
            <a:r>
              <a:rPr b="1" lang="zh-CN" sz="4800" spc="-1" strike="noStrike">
                <a:solidFill>
                  <a:srgbClr val="7030a0"/>
                </a:solidFill>
                <a:latin typeface="隶书"/>
                <a:ea typeface="隶书"/>
              </a:rPr>
              <a:t>论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"/>
          <p:cNvSpPr/>
          <p:nvPr/>
        </p:nvSpPr>
        <p:spPr>
          <a:xfrm>
            <a:off x="262080" y="1327320"/>
            <a:ext cx="84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作者引用了哪些古语、俗语来形容尽责任之后的乐呢？请找出来，并讲讲它们的含义和作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32"/>
          <p:cNvSpPr/>
          <p:nvPr/>
        </p:nvSpPr>
        <p:spPr>
          <a:xfrm>
            <a:off x="527040" y="3067200"/>
            <a:ext cx="5772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俗语</a:t>
            </a:r>
            <a:r>
              <a:rPr b="1" lang="en-US" sz="3000" spc="-1" strike="noStrike">
                <a:solidFill>
                  <a:srgbClr val="0070c0"/>
                </a:solidFill>
                <a:latin typeface="宋体"/>
              </a:rPr>
              <a:t>——</a:t>
            </a:r>
            <a:r>
              <a:rPr b="1" lang="zh-CN" sz="3000" spc="-1" strike="noStrike">
                <a:solidFill>
                  <a:srgbClr val="0070c0"/>
                </a:solidFill>
                <a:latin typeface="宋体"/>
                <a:ea typeface="宋体"/>
              </a:rPr>
              <a:t>心上一块石头落了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041"/>
          <p:cNvSpPr/>
          <p:nvPr/>
        </p:nvSpPr>
        <p:spPr>
          <a:xfrm>
            <a:off x="517680" y="5092560"/>
            <a:ext cx="547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古语</a:t>
            </a:r>
            <a:r>
              <a:rPr b="1" lang="en-US" sz="3000" spc="-1" strike="noStrike">
                <a:solidFill>
                  <a:srgbClr val="0070c0"/>
                </a:solidFill>
                <a:latin typeface="宋体"/>
              </a:rPr>
              <a:t>——</a:t>
            </a:r>
            <a:r>
              <a:rPr b="1" lang="zh-CN" sz="3000" spc="-1" strike="noStrike">
                <a:solidFill>
                  <a:srgbClr val="0070c0"/>
                </a:solidFill>
                <a:latin typeface="宋体"/>
                <a:ea typeface="宋体"/>
              </a:rPr>
              <a:t>如释重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42"/>
          <p:cNvSpPr/>
          <p:nvPr/>
        </p:nvSpPr>
        <p:spPr>
          <a:xfrm>
            <a:off x="517680" y="3716280"/>
            <a:ext cx="712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含义：</a:t>
            </a:r>
            <a:r>
              <a:rPr b="1" lang="zh-CN" sz="3000" spc="-1" strike="noStrike">
                <a:solidFill>
                  <a:srgbClr val="0070c0"/>
                </a:solidFill>
                <a:latin typeface="宋体"/>
                <a:ea typeface="宋体"/>
              </a:rPr>
              <a:t>好像放下了沉重的负担。形容心情紧张后的轻松愉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45"/>
          <p:cNvSpPr/>
          <p:nvPr/>
        </p:nvSpPr>
        <p:spPr>
          <a:xfrm>
            <a:off x="539640" y="580392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宋体"/>
              </a:rPr>
              <a:t>含义：</a:t>
            </a:r>
            <a:r>
              <a:rPr b="1" lang="zh-CN" sz="3000" spc="-1" strike="noStrike">
                <a:solidFill>
                  <a:srgbClr val="0070c0"/>
                </a:solidFill>
                <a:latin typeface="Arial"/>
                <a:ea typeface="宋体"/>
              </a:rPr>
              <a:t>本来担心或害怕的紧张心情得到了缓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0"/>
          <p:cNvSpPr/>
          <p:nvPr/>
        </p:nvSpPr>
        <p:spPr>
          <a:xfrm>
            <a:off x="330120" y="871560"/>
            <a:ext cx="4651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孔子</a:t>
            </a:r>
            <a:r>
              <a:rPr b="1" lang="en-US" sz="3200" spc="-1" strike="noStrike">
                <a:solidFill>
                  <a:srgbClr val="0070c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  <a:ea typeface="宋体"/>
              </a:rPr>
              <a:t>无入而不自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1"/>
          <p:cNvSpPr/>
          <p:nvPr/>
        </p:nvSpPr>
        <p:spPr>
          <a:xfrm>
            <a:off x="330120" y="1881360"/>
            <a:ext cx="503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含义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无论到了什么境地，没有不自由自在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330120" y="3519360"/>
            <a:ext cx="3992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  <a:ea typeface="宋体"/>
              </a:rPr>
              <a:t>形象生动地论证了尽责任之后的轻松愉快的心情和快乐自由的境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1" descr="50da81cb39dbb6fdecf5cad20a24ab18962b3793"/>
          <p:cNvPicPr/>
          <p:nvPr/>
        </p:nvPicPr>
        <p:blipFill>
          <a:blip r:embed="rId1"/>
          <a:stretch/>
        </p:blipFill>
        <p:spPr>
          <a:xfrm>
            <a:off x="5151600" y="1517760"/>
            <a:ext cx="360828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534960" y="2835360"/>
            <a:ext cx="270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  <a:ea typeface="宋体"/>
              </a:rPr>
              <a:t>有关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2743920" y="2112840"/>
            <a:ext cx="403200" cy="64260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快乐之权，操之在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"/>
          <p:cNvSpPr/>
          <p:nvPr/>
        </p:nvSpPr>
        <p:spPr>
          <a:xfrm>
            <a:off x="219240" y="658800"/>
            <a:ext cx="851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作者认为这种乐的决定权在谁呢？结合文中语言谈谈你的理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2"/>
          <p:cNvSpPr/>
          <p:nvPr/>
        </p:nvSpPr>
        <p:spPr>
          <a:xfrm>
            <a:off x="614520" y="37306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宋体"/>
              </a:rPr>
              <a:t>天下事从苦中得来的乐才算真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3"/>
          <p:cNvSpPr/>
          <p:nvPr/>
        </p:nvSpPr>
        <p:spPr>
          <a:xfrm>
            <a:off x="614520" y="48830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宋体"/>
              </a:rPr>
              <a:t>人生须知道有负责任的苦处，才能知道有尽责任的乐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1" descr="29374567_1"/>
          <p:cNvPicPr/>
          <p:nvPr/>
        </p:nvPicPr>
        <p:blipFill>
          <a:blip r:embed="rId1"/>
          <a:stretch/>
        </p:blipFill>
        <p:spPr>
          <a:xfrm>
            <a:off x="5845320" y="2016000"/>
            <a:ext cx="2589120" cy="4238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"/>
          <p:cNvSpPr/>
          <p:nvPr/>
        </p:nvSpPr>
        <p:spPr>
          <a:xfrm>
            <a:off x="291960" y="507960"/>
            <a:ext cx="34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隶书"/>
                <a:ea typeface="隶书"/>
              </a:rPr>
              <a:t>(</a:t>
            </a:r>
            <a:r>
              <a:rPr b="1" lang="zh-CN" sz="4800" spc="-1" strike="noStrike">
                <a:solidFill>
                  <a:srgbClr val="7030a0"/>
                </a:solidFill>
                <a:latin typeface="隶书"/>
                <a:ea typeface="隶书"/>
              </a:rPr>
              <a:t>三</a:t>
            </a:r>
            <a:r>
              <a:rPr b="1" lang="en-US" sz="4800" spc="-1" strike="noStrike">
                <a:solidFill>
                  <a:srgbClr val="7030a0"/>
                </a:solidFill>
                <a:latin typeface="隶书"/>
                <a:ea typeface="隶书"/>
              </a:rPr>
              <a:t>)</a:t>
            </a:r>
            <a:r>
              <a:rPr b="1" lang="zh-CN" sz="4800" spc="-1" strike="noStrike">
                <a:solidFill>
                  <a:srgbClr val="7030a0"/>
                </a:solidFill>
                <a:latin typeface="隶书"/>
                <a:ea typeface="隶书"/>
              </a:rPr>
              <a:t>担责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"/>
          <p:cNvSpPr/>
          <p:nvPr/>
        </p:nvSpPr>
        <p:spPr>
          <a:xfrm>
            <a:off x="291960" y="1341360"/>
            <a:ext cx="853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找出作者引用的名言佳句，并想一想这些话的含义以及要证明什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380880" y="2771640"/>
            <a:ext cx="56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孟子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君子有终身之忧  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452520" y="3654360"/>
            <a:ext cx="4754520" cy="60588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含义：君子一生担心对社会国家所负的责任没有做好，因而终身都处于忧虑之中，但不会有一朝一夕对个人的遭遇的激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25607" descr="3b292df5e0fe99252f315f2037a85edf8db17184"/>
          <p:cNvPicPr/>
          <p:nvPr/>
        </p:nvPicPr>
        <p:blipFill>
          <a:blip r:embed="rId1"/>
          <a:stretch/>
        </p:blipFill>
        <p:spPr>
          <a:xfrm>
            <a:off x="5724360" y="2654280"/>
            <a:ext cx="3038760" cy="365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228600" y="444600"/>
            <a:ext cx="44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曾子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任重而道远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79360" y="2060640"/>
            <a:ext cx="44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曾子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死而后已，不亦远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351000" y="1084320"/>
            <a:ext cx="4452840" cy="52056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义：负担沉重而且路途遥远。比喻责任重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352440" y="3255840"/>
            <a:ext cx="4695840" cy="60588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义：一直走到死 的时候才放得下，不也是很远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79360" y="45147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引用名言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"/>
          <p:cNvSpPr/>
          <p:nvPr/>
        </p:nvSpPr>
        <p:spPr>
          <a:xfrm>
            <a:off x="351000" y="5154480"/>
            <a:ext cx="7108560" cy="64836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证明天下事从苦中得来的乐才是真乐，从而得出了“人生当勇于承担负责”的结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图片 1" descr="1738629_a9baa35abbdbf81e2b6255671ab1b1ea"/>
          <p:cNvPicPr/>
          <p:nvPr/>
        </p:nvPicPr>
        <p:blipFill>
          <a:blip r:embed="rId1"/>
          <a:stretch/>
        </p:blipFill>
        <p:spPr>
          <a:xfrm>
            <a:off x="5576760" y="666720"/>
            <a:ext cx="3071880" cy="3776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"/>
          <p:cNvSpPr/>
          <p:nvPr/>
        </p:nvSpPr>
        <p:spPr>
          <a:xfrm>
            <a:off x="339840" y="5634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作者为什么说“仁人志士的忧国忧民”、“诸圣诸佛的悲天悯人”是乐而不是苦呢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3"/>
          <p:cNvSpPr/>
          <p:nvPr/>
        </p:nvSpPr>
        <p:spPr>
          <a:xfrm>
            <a:off x="527040" y="2462040"/>
            <a:ext cx="3994200" cy="199476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  <a:ea typeface="宋体"/>
              </a:rPr>
              <a:t>因为“尽得大的责任，就得大快乐”，“日日尽责任，便日日得苦中真乐。”所以苦中真乐，是乐，不是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图片 1" descr="54670893_1"/>
          <p:cNvPicPr/>
          <p:nvPr/>
        </p:nvPicPr>
        <p:blipFill>
          <a:blip r:embed="rId1"/>
          <a:stretch/>
        </p:blipFill>
        <p:spPr>
          <a:xfrm>
            <a:off x="5665680" y="2122560"/>
            <a:ext cx="2459160" cy="4233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40"/>
          <p:cNvSpPr/>
          <p:nvPr/>
        </p:nvSpPr>
        <p:spPr>
          <a:xfrm>
            <a:off x="281160" y="539640"/>
            <a:ext cx="85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最后一段证明了什么内容呢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?“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卸却责任”和“解除责任”有什么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041"/>
          <p:cNvSpPr/>
          <p:nvPr/>
        </p:nvSpPr>
        <p:spPr>
          <a:xfrm>
            <a:off x="345960" y="2997360"/>
            <a:ext cx="4946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宋体"/>
              </a:rPr>
              <a:t>    “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卸却责任”指未尽责任，丢开不管；“解除责任”指尽了责任，再无负担。责任是要解除了才没有，并不是卸了就没有。想躲责任，只是自投苦海，痛苦永远不能解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45"/>
          <p:cNvSpPr/>
          <p:nvPr/>
        </p:nvSpPr>
        <p:spPr>
          <a:xfrm>
            <a:off x="754200" y="1960560"/>
            <a:ext cx="6842160" cy="58140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证明了“人生不应当逃避责任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图片 31750" descr="2014011022154067"/>
          <p:cNvPicPr/>
          <p:nvPr/>
        </p:nvPicPr>
        <p:blipFill>
          <a:blip r:embed="rId1"/>
          <a:stretch/>
        </p:blipFill>
        <p:spPr>
          <a:xfrm>
            <a:off x="5867280" y="2924280"/>
            <a:ext cx="2737080" cy="3524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1"/>
          <p:cNvSpPr/>
          <p:nvPr/>
        </p:nvSpPr>
        <p:spPr>
          <a:xfrm>
            <a:off x="309600" y="1279440"/>
            <a:ext cx="854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文章的题目叫做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最苦与最乐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，最后一段中哪些句子分别呼应了“最苦”和“最乐”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59"/>
          <p:cNvGrpSpPr/>
          <p:nvPr/>
        </p:nvGrpSpPr>
        <p:grpSpPr>
          <a:xfrm>
            <a:off x="296640" y="609480"/>
            <a:ext cx="2649600" cy="607680"/>
            <a:chOff x="296640" y="609480"/>
            <a:chExt cx="2649600" cy="607680"/>
          </a:xfrm>
        </p:grpSpPr>
        <p:grpSp>
          <p:nvGrpSpPr>
            <p:cNvPr id="450" name=""/>
            <p:cNvGrpSpPr/>
            <p:nvPr/>
          </p:nvGrpSpPr>
          <p:grpSpPr>
            <a:xfrm>
              <a:off x="380880" y="1155600"/>
              <a:ext cx="2565360" cy="360"/>
              <a:chOff x="380880" y="1155600"/>
              <a:chExt cx="2565360" cy="360"/>
            </a:xfrm>
          </p:grpSpPr>
          <p:sp>
            <p:nvSpPr>
              <p:cNvPr id="451" name="Line 60"/>
              <p:cNvSpPr/>
              <p:nvPr/>
            </p:nvSpPr>
            <p:spPr>
              <a:xfrm>
                <a:off x="380880" y="1155600"/>
                <a:ext cx="25653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 txBox="1"/>
              <p:nvPr/>
            </p:nvSpPr>
            <p:spPr>
              <a:xfrm>
                <a:off x="380880" y="1155600"/>
                <a:ext cx="2565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Text Box 61"/>
            <p:cNvSpPr/>
            <p:nvPr/>
          </p:nvSpPr>
          <p:spPr>
            <a:xfrm>
              <a:off x="1161360" y="609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f0"/>
                  </a:solidFill>
                  <a:latin typeface="楷体"/>
                  <a:ea typeface="楷体"/>
                </a:rPr>
                <a:t>合作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62"/>
            <p:cNvGrpSpPr/>
            <p:nvPr/>
          </p:nvGrpSpPr>
          <p:grpSpPr>
            <a:xfrm>
              <a:off x="296640" y="620280"/>
              <a:ext cx="392760" cy="596880"/>
              <a:chOff x="296640" y="620280"/>
              <a:chExt cx="392760" cy="596880"/>
            </a:xfrm>
          </p:grpSpPr>
          <p:sp>
            <p:nvSpPr>
              <p:cNvPr id="455" name="Freeform 63"/>
              <p:cNvSpPr/>
              <p:nvPr/>
            </p:nvSpPr>
            <p:spPr>
              <a:xfrm rot="17176200">
                <a:off x="635040" y="771480"/>
                <a:ext cx="52920" cy="468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64"/>
              <p:cNvSpPr/>
              <p:nvPr/>
            </p:nvSpPr>
            <p:spPr>
              <a:xfrm rot="17176200">
                <a:off x="601920" y="757080"/>
                <a:ext cx="114840" cy="136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65"/>
              <p:cNvSpPr/>
              <p:nvPr/>
            </p:nvSpPr>
            <p:spPr>
              <a:xfrm rot="17176200">
                <a:off x="575280" y="755640"/>
                <a:ext cx="145800" cy="2340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66"/>
              <p:cNvSpPr/>
              <p:nvPr/>
            </p:nvSpPr>
            <p:spPr>
              <a:xfrm rot="17176200">
                <a:off x="564480" y="746280"/>
                <a:ext cx="166680" cy="2808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67"/>
              <p:cNvSpPr/>
              <p:nvPr/>
            </p:nvSpPr>
            <p:spPr>
              <a:xfrm rot="17176200">
                <a:off x="551520" y="747720"/>
                <a:ext cx="185760" cy="3240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68"/>
              <p:cNvSpPr/>
              <p:nvPr/>
            </p:nvSpPr>
            <p:spPr>
              <a:xfrm rot="17176200">
                <a:off x="542880" y="743760"/>
                <a:ext cx="197640" cy="3492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69"/>
              <p:cNvSpPr/>
              <p:nvPr/>
            </p:nvSpPr>
            <p:spPr>
              <a:xfrm rot="17176200">
                <a:off x="536760" y="735120"/>
                <a:ext cx="206640" cy="4212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70"/>
              <p:cNvSpPr/>
              <p:nvPr/>
            </p:nvSpPr>
            <p:spPr>
              <a:xfrm rot="17176200">
                <a:off x="525960" y="731520"/>
                <a:ext cx="215640" cy="4464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71"/>
              <p:cNvSpPr/>
              <p:nvPr/>
            </p:nvSpPr>
            <p:spPr>
              <a:xfrm rot="17176200">
                <a:off x="522720" y="726840"/>
                <a:ext cx="219600" cy="4896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72"/>
              <p:cNvSpPr/>
              <p:nvPr/>
            </p:nvSpPr>
            <p:spPr>
              <a:xfrm rot="17176200">
                <a:off x="519480" y="724680"/>
                <a:ext cx="219600" cy="5148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73"/>
              <p:cNvSpPr/>
              <p:nvPr/>
            </p:nvSpPr>
            <p:spPr>
              <a:xfrm rot="17176200">
                <a:off x="513000" y="721080"/>
                <a:ext cx="224640" cy="5148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74"/>
              <p:cNvSpPr/>
              <p:nvPr/>
            </p:nvSpPr>
            <p:spPr>
              <a:xfrm rot="17176200">
                <a:off x="516240" y="707400"/>
                <a:ext cx="219600" cy="5652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75"/>
              <p:cNvSpPr/>
              <p:nvPr/>
            </p:nvSpPr>
            <p:spPr>
              <a:xfrm rot="17176200">
                <a:off x="510480" y="704880"/>
                <a:ext cx="219600" cy="58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76"/>
              <p:cNvSpPr/>
              <p:nvPr/>
            </p:nvSpPr>
            <p:spPr>
              <a:xfrm rot="17176200">
                <a:off x="508680" y="709200"/>
                <a:ext cx="216720" cy="612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77"/>
              <p:cNvSpPr/>
              <p:nvPr/>
            </p:nvSpPr>
            <p:spPr>
              <a:xfrm rot="17176200">
                <a:off x="505800" y="707400"/>
                <a:ext cx="216720" cy="633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78"/>
              <p:cNvSpPr/>
              <p:nvPr/>
            </p:nvSpPr>
            <p:spPr>
              <a:xfrm rot="17176200">
                <a:off x="501840" y="698040"/>
                <a:ext cx="211680" cy="655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79"/>
              <p:cNvSpPr/>
              <p:nvPr/>
            </p:nvSpPr>
            <p:spPr>
              <a:xfrm rot="17176200">
                <a:off x="508680" y="701640"/>
                <a:ext cx="202680" cy="6804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80"/>
              <p:cNvSpPr/>
              <p:nvPr/>
            </p:nvSpPr>
            <p:spPr>
              <a:xfrm rot="17176200">
                <a:off x="508680" y="697680"/>
                <a:ext cx="197640" cy="7020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81"/>
              <p:cNvSpPr/>
              <p:nvPr/>
            </p:nvSpPr>
            <p:spPr>
              <a:xfrm rot="17176200">
                <a:off x="509760" y="696600"/>
                <a:ext cx="189720" cy="7020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82"/>
              <p:cNvSpPr/>
              <p:nvPr/>
            </p:nvSpPr>
            <p:spPr>
              <a:xfrm rot="17176200">
                <a:off x="510480" y="694440"/>
                <a:ext cx="185760" cy="7020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83"/>
              <p:cNvSpPr/>
              <p:nvPr/>
            </p:nvSpPr>
            <p:spPr>
              <a:xfrm rot="17176200">
                <a:off x="511560" y="688680"/>
                <a:ext cx="176760" cy="7020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84"/>
              <p:cNvSpPr/>
              <p:nvPr/>
            </p:nvSpPr>
            <p:spPr>
              <a:xfrm rot="17176200">
                <a:off x="514800" y="693000"/>
                <a:ext cx="167760" cy="7020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85"/>
              <p:cNvSpPr/>
              <p:nvPr/>
            </p:nvSpPr>
            <p:spPr>
              <a:xfrm rot="17176200">
                <a:off x="514440" y="694440"/>
                <a:ext cx="162720" cy="7020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86"/>
              <p:cNvSpPr/>
              <p:nvPr/>
            </p:nvSpPr>
            <p:spPr>
              <a:xfrm rot="17176200">
                <a:off x="516600" y="693360"/>
                <a:ext cx="153720" cy="7020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87"/>
              <p:cNvSpPr/>
              <p:nvPr/>
            </p:nvSpPr>
            <p:spPr>
              <a:xfrm rot="17176200">
                <a:off x="516600" y="691920"/>
                <a:ext cx="145800" cy="7092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88"/>
              <p:cNvSpPr/>
              <p:nvPr/>
            </p:nvSpPr>
            <p:spPr>
              <a:xfrm rot="17176200">
                <a:off x="520920" y="688680"/>
                <a:ext cx="136800" cy="6804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89"/>
              <p:cNvSpPr/>
              <p:nvPr/>
            </p:nvSpPr>
            <p:spPr>
              <a:xfrm rot="17176200">
                <a:off x="524160" y="693000"/>
                <a:ext cx="127800" cy="6804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90"/>
              <p:cNvSpPr/>
              <p:nvPr/>
            </p:nvSpPr>
            <p:spPr>
              <a:xfrm rot="17176200">
                <a:off x="530640" y="696600"/>
                <a:ext cx="118800" cy="633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91"/>
              <p:cNvSpPr/>
              <p:nvPr/>
            </p:nvSpPr>
            <p:spPr>
              <a:xfrm rot="17176200">
                <a:off x="533160" y="697320"/>
                <a:ext cx="109800" cy="5868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92"/>
              <p:cNvSpPr/>
              <p:nvPr/>
            </p:nvSpPr>
            <p:spPr>
              <a:xfrm rot="17176200">
                <a:off x="539280" y="700560"/>
                <a:ext cx="101880" cy="5364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93"/>
              <p:cNvSpPr/>
              <p:nvPr/>
            </p:nvSpPr>
            <p:spPr>
              <a:xfrm rot="17176200">
                <a:off x="542880" y="697680"/>
                <a:ext cx="92880" cy="4932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94"/>
              <p:cNvSpPr/>
              <p:nvPr/>
            </p:nvSpPr>
            <p:spPr>
              <a:xfrm rot="17176200">
                <a:off x="546840" y="700920"/>
                <a:ext cx="87840" cy="4932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95"/>
              <p:cNvSpPr/>
              <p:nvPr/>
            </p:nvSpPr>
            <p:spPr>
              <a:xfrm rot="17176200">
                <a:off x="547560" y="706320"/>
                <a:ext cx="83880" cy="4212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96"/>
              <p:cNvSpPr/>
              <p:nvPr/>
            </p:nvSpPr>
            <p:spPr>
              <a:xfrm rot="17176200">
                <a:off x="550800" y="707760"/>
                <a:ext cx="74880" cy="3996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97"/>
              <p:cNvSpPr/>
              <p:nvPr/>
            </p:nvSpPr>
            <p:spPr>
              <a:xfrm rot="17176200">
                <a:off x="556560" y="711000"/>
                <a:ext cx="65880" cy="3240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98"/>
              <p:cNvSpPr/>
              <p:nvPr/>
            </p:nvSpPr>
            <p:spPr>
              <a:xfrm rot="17176200">
                <a:off x="556920" y="711000"/>
                <a:ext cx="57600" cy="3060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99"/>
              <p:cNvSpPr/>
              <p:nvPr/>
            </p:nvSpPr>
            <p:spPr>
              <a:xfrm rot="17176200">
                <a:off x="566280" y="714600"/>
                <a:ext cx="47880" cy="2592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00"/>
              <p:cNvSpPr/>
              <p:nvPr/>
            </p:nvSpPr>
            <p:spPr>
              <a:xfrm rot="17176200">
                <a:off x="567360" y="711360"/>
                <a:ext cx="39960" cy="2124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01"/>
              <p:cNvSpPr/>
              <p:nvPr/>
            </p:nvSpPr>
            <p:spPr>
              <a:xfrm rot="17176200">
                <a:off x="574560" y="719640"/>
                <a:ext cx="30960" cy="1620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02"/>
              <p:cNvSpPr/>
              <p:nvPr/>
            </p:nvSpPr>
            <p:spPr>
              <a:xfrm rot="17176200">
                <a:off x="577080" y="721080"/>
                <a:ext cx="21960" cy="115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03"/>
              <p:cNvSpPr/>
              <p:nvPr/>
            </p:nvSpPr>
            <p:spPr>
              <a:xfrm rot="17176200">
                <a:off x="583200" y="72396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04"/>
              <p:cNvSpPr/>
              <p:nvPr/>
            </p:nvSpPr>
            <p:spPr>
              <a:xfrm rot="17176200">
                <a:off x="585360" y="72252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05"/>
              <p:cNvSpPr/>
              <p:nvPr/>
            </p:nvSpPr>
            <p:spPr>
              <a:xfrm rot="17176200">
                <a:off x="280800" y="1052280"/>
                <a:ext cx="193680" cy="11232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06"/>
              <p:cNvSpPr/>
              <p:nvPr/>
            </p:nvSpPr>
            <p:spPr>
              <a:xfrm rot="17176200">
                <a:off x="260640" y="1072440"/>
                <a:ext cx="193680" cy="6048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07"/>
              <p:cNvSpPr/>
              <p:nvPr/>
            </p:nvSpPr>
            <p:spPr>
              <a:xfrm rot="17176200">
                <a:off x="307800" y="1150200"/>
                <a:ext cx="57600" cy="3492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08"/>
              <p:cNvSpPr/>
              <p:nvPr/>
            </p:nvSpPr>
            <p:spPr>
              <a:xfrm rot="17176200">
                <a:off x="301680" y="1151640"/>
                <a:ext cx="56880" cy="1836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09"/>
              <p:cNvSpPr/>
              <p:nvPr/>
            </p:nvSpPr>
            <p:spPr>
              <a:xfrm rot="17176200">
                <a:off x="267840" y="788760"/>
                <a:ext cx="409320" cy="14760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10"/>
              <p:cNvSpPr/>
              <p:nvPr/>
            </p:nvSpPr>
            <p:spPr>
              <a:xfrm rot="17176200">
                <a:off x="279360" y="815400"/>
                <a:ext cx="440280" cy="169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11"/>
              <p:cNvSpPr/>
              <p:nvPr/>
            </p:nvSpPr>
            <p:spPr>
              <a:xfrm rot="17176200">
                <a:off x="307440" y="902160"/>
                <a:ext cx="427320" cy="14328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12"/>
              <p:cNvSpPr/>
              <p:nvPr/>
            </p:nvSpPr>
            <p:spPr>
              <a:xfrm rot="17176200">
                <a:off x="542160" y="696240"/>
                <a:ext cx="132840" cy="10548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13"/>
              <p:cNvSpPr/>
              <p:nvPr/>
            </p:nvSpPr>
            <p:spPr>
              <a:xfrm rot="17176200">
                <a:off x="550800" y="672480"/>
                <a:ext cx="100800" cy="7992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14"/>
              <p:cNvSpPr/>
              <p:nvPr/>
            </p:nvSpPr>
            <p:spPr>
              <a:xfrm rot="17176200">
                <a:off x="557280" y="682560"/>
                <a:ext cx="48600" cy="3024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Rectangle 4"/>
          <p:cNvSpPr/>
          <p:nvPr/>
        </p:nvSpPr>
        <p:spPr>
          <a:xfrm>
            <a:off x="2195640" y="314172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责任是要解除了才没有，并不是卸了就没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2124000" y="4021200"/>
            <a:ext cx="6423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尽得大的责任，就得大快乐；尽得小的责任，就得小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530280" y="3100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最乐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2163600" y="52452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躲责任，只是自投苦海，痛苦永远不能解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611280" y="5157720"/>
            <a:ext cx="284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最苦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——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253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257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4130"/>
          <p:cNvSpPr/>
          <p:nvPr/>
        </p:nvSpPr>
        <p:spPr>
          <a:xfrm>
            <a:off x="393840" y="241920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15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最苦与最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285840" y="465120"/>
            <a:ext cx="839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文中运用了哪些不同的句式和哪些论证方法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?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有什么好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593640" y="3241800"/>
            <a:ext cx="8226360" cy="60588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论证方法：引证、例证、道理论证、对比论证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593640" y="1866960"/>
            <a:ext cx="7939080" cy="60588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句式：陈述句、设问句、反问句、感叹句；肯定句、否定句；主动句、被动句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1"/>
          <p:cNvSpPr/>
          <p:nvPr/>
        </p:nvSpPr>
        <p:spPr>
          <a:xfrm>
            <a:off x="593640" y="4667400"/>
            <a:ext cx="7939080" cy="60588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虽然本文谈的是严肃的话题，但由于句式、论证方法的变化，使得文章的语言凝重却不呆滞，有一股灵动之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8"/>
          <p:cNvSpPr/>
          <p:nvPr/>
        </p:nvSpPr>
        <p:spPr>
          <a:xfrm>
            <a:off x="520560" y="4087800"/>
            <a:ext cx="25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宋体"/>
              </a:rPr>
              <a:t>好处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文本框 34818"/>
          <p:cNvSpPr/>
          <p:nvPr/>
        </p:nvSpPr>
        <p:spPr>
          <a:xfrm>
            <a:off x="307800" y="1125360"/>
            <a:ext cx="865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痛苦与快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是人类永恒的话题。哲人志士有不少精彩的论述。这篇文章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  <a:ea typeface="宋体"/>
              </a:rPr>
              <a:t>从什么是最苦、什么是最乐来谈人生的责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本文思想深刻严密，格调高雅，语言凝重，谈到了除两三岁的孩子外，人人都有应尽的责任。论证了一对姊妹命题：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宋体"/>
              </a:rPr>
              <a:t>负（未尽的）责任是人生最大的痛苦，尽责任是人生最大的快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34819"/>
          <p:cNvSpPr/>
          <p:nvPr/>
        </p:nvSpPr>
        <p:spPr>
          <a:xfrm>
            <a:off x="257040" y="414360"/>
            <a:ext cx="26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隶书"/>
                <a:ea typeface="隶书"/>
              </a:rPr>
              <a:t>小 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文本框 36867"/>
          <p:cNvSpPr/>
          <p:nvPr/>
        </p:nvSpPr>
        <p:spPr>
          <a:xfrm>
            <a:off x="361800" y="527040"/>
            <a:ext cx="836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读完全文后，你觉得作为一名青年学生对家庭、社会、国家应负有怎样的责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图片 1" descr="10124757_172322469330_2"/>
          <p:cNvPicPr/>
          <p:nvPr/>
        </p:nvPicPr>
        <p:blipFill>
          <a:blip r:embed="rId1"/>
          <a:stretch/>
        </p:blipFill>
        <p:spPr>
          <a:xfrm>
            <a:off x="2044800" y="2028960"/>
            <a:ext cx="6514920" cy="4289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4e4a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8f8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8"/>
          <p:cNvSpPr/>
          <p:nvPr/>
        </p:nvSpPr>
        <p:spPr>
          <a:xfrm>
            <a:off x="655560" y="1523880"/>
            <a:ext cx="77328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简要了解作者生平及为人处世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明确苦乐与责任的关系，领会作者对人生价值的思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树立对家庭、社会、国家、自己的责任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11" descr=""/>
          <p:cNvPicPr/>
          <p:nvPr/>
        </p:nvPicPr>
        <p:blipFill>
          <a:blip r:embed="rId1"/>
          <a:stretch/>
        </p:blipFill>
        <p:spPr>
          <a:xfrm>
            <a:off x="324000" y="665280"/>
            <a:ext cx="172404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270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3"/>
          <p:cNvGrpSpPr/>
          <p:nvPr/>
        </p:nvGrpSpPr>
        <p:grpSpPr>
          <a:xfrm>
            <a:off x="396720" y="1268280"/>
            <a:ext cx="1714680" cy="499680"/>
            <a:chOff x="396720" y="1268280"/>
            <a:chExt cx="1714680" cy="499680"/>
          </a:xfrm>
        </p:grpSpPr>
        <p:sp>
          <p:nvSpPr>
            <p:cNvPr id="276" name="流程图: 文档 2"/>
            <p:cNvSpPr/>
            <p:nvPr/>
          </p:nvSpPr>
          <p:spPr>
            <a:xfrm>
              <a:off x="396720" y="1314360"/>
              <a:ext cx="1672200" cy="453600"/>
            </a:xfrm>
            <a:prstGeom prst="flowChartDocument">
              <a:avLst/>
            </a:prstGeom>
            <a:solidFill>
              <a:srgbClr val="8886a9"/>
            </a:solidFill>
            <a:ln w="12600">
              <a:solidFill>
                <a:srgbClr val="9f9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4101"/>
            <p:cNvSpPr/>
            <p:nvPr/>
          </p:nvSpPr>
          <p:spPr>
            <a:xfrm>
              <a:off x="396720" y="1268280"/>
              <a:ext cx="1714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文本框 1"/>
          <p:cNvSpPr/>
          <p:nvPr/>
        </p:nvSpPr>
        <p:spPr>
          <a:xfrm>
            <a:off x="2943360" y="960480"/>
            <a:ext cx="58165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梁启超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873—1929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年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字卓如，号任公，一字任甫，别号饮冰室主人，近代改良主义思想家、教育家。广东新会人。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889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年中举人。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898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年参与戊戌变法。晚年任清华学校研究院导师。著有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饮冰室合集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1019"/>
          <p:cNvPicPr/>
          <p:nvPr/>
        </p:nvPicPr>
        <p:blipFill>
          <a:blip r:embed="rId1"/>
          <a:stretch/>
        </p:blipFill>
        <p:spPr>
          <a:xfrm>
            <a:off x="295200" y="2158920"/>
            <a:ext cx="2422440" cy="321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9"/>
          <p:cNvGrpSpPr/>
          <p:nvPr/>
        </p:nvGrpSpPr>
        <p:grpSpPr>
          <a:xfrm>
            <a:off x="311040" y="614520"/>
            <a:ext cx="2649600" cy="667800"/>
            <a:chOff x="311040" y="614520"/>
            <a:chExt cx="2649600" cy="667800"/>
          </a:xfrm>
        </p:grpSpPr>
        <p:grpSp>
          <p:nvGrpSpPr>
            <p:cNvPr id="282" name=""/>
            <p:cNvGrpSpPr/>
            <p:nvPr/>
          </p:nvGrpSpPr>
          <p:grpSpPr>
            <a:xfrm>
              <a:off x="395280" y="1220760"/>
              <a:ext cx="2565360" cy="360"/>
              <a:chOff x="395280" y="1220760"/>
              <a:chExt cx="2565360" cy="360"/>
            </a:xfrm>
          </p:grpSpPr>
          <p:sp>
            <p:nvSpPr>
              <p:cNvPr id="283" name="Line 60"/>
              <p:cNvSpPr/>
              <p:nvPr/>
            </p:nvSpPr>
            <p:spPr>
              <a:xfrm>
                <a:off x="395280" y="1220760"/>
                <a:ext cx="25653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395280" y="1220760"/>
                <a:ext cx="2565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61"/>
            <p:cNvSpPr/>
            <p:nvPr/>
          </p:nvSpPr>
          <p:spPr>
            <a:xfrm>
              <a:off x="1069560" y="6145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f0"/>
                  </a:solidFill>
                  <a:latin typeface="宋体"/>
                  <a:ea typeface="宋体"/>
                </a:rPr>
                <a:t>字词音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62"/>
            <p:cNvGrpSpPr/>
            <p:nvPr/>
          </p:nvGrpSpPr>
          <p:grpSpPr>
            <a:xfrm>
              <a:off x="311040" y="685440"/>
              <a:ext cx="392760" cy="596880"/>
              <a:chOff x="311040" y="685440"/>
              <a:chExt cx="392760" cy="596880"/>
            </a:xfrm>
          </p:grpSpPr>
          <p:sp>
            <p:nvSpPr>
              <p:cNvPr id="287" name="Freeform 63"/>
              <p:cNvSpPr/>
              <p:nvPr/>
            </p:nvSpPr>
            <p:spPr>
              <a:xfrm rot="17176200">
                <a:off x="649440" y="836640"/>
                <a:ext cx="52920" cy="468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64"/>
              <p:cNvSpPr/>
              <p:nvPr/>
            </p:nvSpPr>
            <p:spPr>
              <a:xfrm rot="17176200">
                <a:off x="616320" y="822240"/>
                <a:ext cx="114840" cy="136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65"/>
              <p:cNvSpPr/>
              <p:nvPr/>
            </p:nvSpPr>
            <p:spPr>
              <a:xfrm rot="17176200">
                <a:off x="589680" y="820800"/>
                <a:ext cx="145800" cy="2340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66"/>
              <p:cNvSpPr/>
              <p:nvPr/>
            </p:nvSpPr>
            <p:spPr>
              <a:xfrm rot="17176200">
                <a:off x="578880" y="811440"/>
                <a:ext cx="166680" cy="2808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67"/>
              <p:cNvSpPr/>
              <p:nvPr/>
            </p:nvSpPr>
            <p:spPr>
              <a:xfrm rot="17176200">
                <a:off x="565920" y="812880"/>
                <a:ext cx="185760" cy="3240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68"/>
              <p:cNvSpPr/>
              <p:nvPr/>
            </p:nvSpPr>
            <p:spPr>
              <a:xfrm rot="17176200">
                <a:off x="557280" y="808920"/>
                <a:ext cx="197640" cy="3492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69"/>
              <p:cNvSpPr/>
              <p:nvPr/>
            </p:nvSpPr>
            <p:spPr>
              <a:xfrm rot="17176200">
                <a:off x="551160" y="800280"/>
                <a:ext cx="206640" cy="4212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70"/>
              <p:cNvSpPr/>
              <p:nvPr/>
            </p:nvSpPr>
            <p:spPr>
              <a:xfrm rot="17176200">
                <a:off x="540360" y="796680"/>
                <a:ext cx="215640" cy="4464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71"/>
              <p:cNvSpPr/>
              <p:nvPr/>
            </p:nvSpPr>
            <p:spPr>
              <a:xfrm rot="17176200">
                <a:off x="537120" y="792000"/>
                <a:ext cx="219600" cy="4896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72"/>
              <p:cNvSpPr/>
              <p:nvPr/>
            </p:nvSpPr>
            <p:spPr>
              <a:xfrm rot="17176200">
                <a:off x="533880" y="789840"/>
                <a:ext cx="219600" cy="5148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73"/>
              <p:cNvSpPr/>
              <p:nvPr/>
            </p:nvSpPr>
            <p:spPr>
              <a:xfrm rot="17176200">
                <a:off x="527400" y="786240"/>
                <a:ext cx="224640" cy="5148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74"/>
              <p:cNvSpPr/>
              <p:nvPr/>
            </p:nvSpPr>
            <p:spPr>
              <a:xfrm rot="17176200">
                <a:off x="530640" y="772560"/>
                <a:ext cx="219600" cy="5652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75"/>
              <p:cNvSpPr/>
              <p:nvPr/>
            </p:nvSpPr>
            <p:spPr>
              <a:xfrm rot="17176200">
                <a:off x="524880" y="770040"/>
                <a:ext cx="219600" cy="58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76"/>
              <p:cNvSpPr/>
              <p:nvPr/>
            </p:nvSpPr>
            <p:spPr>
              <a:xfrm rot="17176200">
                <a:off x="523080" y="774360"/>
                <a:ext cx="216720" cy="612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77"/>
              <p:cNvSpPr/>
              <p:nvPr/>
            </p:nvSpPr>
            <p:spPr>
              <a:xfrm rot="17176200">
                <a:off x="520200" y="772560"/>
                <a:ext cx="216720" cy="633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78"/>
              <p:cNvSpPr/>
              <p:nvPr/>
            </p:nvSpPr>
            <p:spPr>
              <a:xfrm rot="17176200">
                <a:off x="516240" y="763200"/>
                <a:ext cx="211680" cy="655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79"/>
              <p:cNvSpPr/>
              <p:nvPr/>
            </p:nvSpPr>
            <p:spPr>
              <a:xfrm rot="17176200">
                <a:off x="523080" y="766800"/>
                <a:ext cx="202680" cy="6804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80"/>
              <p:cNvSpPr/>
              <p:nvPr/>
            </p:nvSpPr>
            <p:spPr>
              <a:xfrm rot="17176200">
                <a:off x="523080" y="762840"/>
                <a:ext cx="197640" cy="7020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81"/>
              <p:cNvSpPr/>
              <p:nvPr/>
            </p:nvSpPr>
            <p:spPr>
              <a:xfrm rot="17176200">
                <a:off x="524160" y="761760"/>
                <a:ext cx="189720" cy="7020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82"/>
              <p:cNvSpPr/>
              <p:nvPr/>
            </p:nvSpPr>
            <p:spPr>
              <a:xfrm rot="17176200">
                <a:off x="524880" y="759600"/>
                <a:ext cx="185760" cy="7020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83"/>
              <p:cNvSpPr/>
              <p:nvPr/>
            </p:nvSpPr>
            <p:spPr>
              <a:xfrm rot="17176200">
                <a:off x="525960" y="753840"/>
                <a:ext cx="176760" cy="7020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84"/>
              <p:cNvSpPr/>
              <p:nvPr/>
            </p:nvSpPr>
            <p:spPr>
              <a:xfrm rot="17176200">
                <a:off x="529200" y="758160"/>
                <a:ext cx="167760" cy="7020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85"/>
              <p:cNvSpPr/>
              <p:nvPr/>
            </p:nvSpPr>
            <p:spPr>
              <a:xfrm rot="17176200">
                <a:off x="528840" y="759600"/>
                <a:ext cx="162720" cy="7020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86"/>
              <p:cNvSpPr/>
              <p:nvPr/>
            </p:nvSpPr>
            <p:spPr>
              <a:xfrm rot="17176200">
                <a:off x="531000" y="758520"/>
                <a:ext cx="153720" cy="7020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87"/>
              <p:cNvSpPr/>
              <p:nvPr/>
            </p:nvSpPr>
            <p:spPr>
              <a:xfrm rot="17176200">
                <a:off x="531000" y="757080"/>
                <a:ext cx="145800" cy="7092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8"/>
              <p:cNvSpPr/>
              <p:nvPr/>
            </p:nvSpPr>
            <p:spPr>
              <a:xfrm rot="17176200">
                <a:off x="535320" y="753840"/>
                <a:ext cx="136800" cy="6804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9"/>
              <p:cNvSpPr/>
              <p:nvPr/>
            </p:nvSpPr>
            <p:spPr>
              <a:xfrm rot="17176200">
                <a:off x="538560" y="758160"/>
                <a:ext cx="127800" cy="6804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90"/>
              <p:cNvSpPr/>
              <p:nvPr/>
            </p:nvSpPr>
            <p:spPr>
              <a:xfrm rot="17176200">
                <a:off x="545040" y="761760"/>
                <a:ext cx="118800" cy="633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91"/>
              <p:cNvSpPr/>
              <p:nvPr/>
            </p:nvSpPr>
            <p:spPr>
              <a:xfrm rot="17176200">
                <a:off x="547560" y="762480"/>
                <a:ext cx="109800" cy="5868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92"/>
              <p:cNvSpPr/>
              <p:nvPr/>
            </p:nvSpPr>
            <p:spPr>
              <a:xfrm rot="17176200">
                <a:off x="553680" y="765720"/>
                <a:ext cx="101880" cy="5364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93"/>
              <p:cNvSpPr/>
              <p:nvPr/>
            </p:nvSpPr>
            <p:spPr>
              <a:xfrm rot="17176200">
                <a:off x="557280" y="762840"/>
                <a:ext cx="92880" cy="4932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94"/>
              <p:cNvSpPr/>
              <p:nvPr/>
            </p:nvSpPr>
            <p:spPr>
              <a:xfrm rot="17176200">
                <a:off x="561240" y="766080"/>
                <a:ext cx="87840" cy="4932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5"/>
              <p:cNvSpPr/>
              <p:nvPr/>
            </p:nvSpPr>
            <p:spPr>
              <a:xfrm rot="17176200">
                <a:off x="561960" y="771480"/>
                <a:ext cx="83880" cy="4212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96"/>
              <p:cNvSpPr/>
              <p:nvPr/>
            </p:nvSpPr>
            <p:spPr>
              <a:xfrm rot="17176200">
                <a:off x="565200" y="772920"/>
                <a:ext cx="74880" cy="3996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97"/>
              <p:cNvSpPr/>
              <p:nvPr/>
            </p:nvSpPr>
            <p:spPr>
              <a:xfrm rot="17176200">
                <a:off x="570960" y="776160"/>
                <a:ext cx="65880" cy="3240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98"/>
              <p:cNvSpPr/>
              <p:nvPr/>
            </p:nvSpPr>
            <p:spPr>
              <a:xfrm rot="17176200">
                <a:off x="571320" y="776160"/>
                <a:ext cx="57600" cy="3060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99"/>
              <p:cNvSpPr/>
              <p:nvPr/>
            </p:nvSpPr>
            <p:spPr>
              <a:xfrm rot="17176200">
                <a:off x="580680" y="779760"/>
                <a:ext cx="47880" cy="2592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00"/>
              <p:cNvSpPr/>
              <p:nvPr/>
            </p:nvSpPr>
            <p:spPr>
              <a:xfrm rot="17176200">
                <a:off x="581760" y="776520"/>
                <a:ext cx="39960" cy="2124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01"/>
              <p:cNvSpPr/>
              <p:nvPr/>
            </p:nvSpPr>
            <p:spPr>
              <a:xfrm rot="17176200">
                <a:off x="588960" y="784800"/>
                <a:ext cx="30960" cy="1620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02"/>
              <p:cNvSpPr/>
              <p:nvPr/>
            </p:nvSpPr>
            <p:spPr>
              <a:xfrm rot="17176200">
                <a:off x="591480" y="786240"/>
                <a:ext cx="21960" cy="115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03"/>
              <p:cNvSpPr/>
              <p:nvPr/>
            </p:nvSpPr>
            <p:spPr>
              <a:xfrm rot="17176200">
                <a:off x="597600" y="78912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04"/>
              <p:cNvSpPr/>
              <p:nvPr/>
            </p:nvSpPr>
            <p:spPr>
              <a:xfrm rot="17176200">
                <a:off x="599760" y="78768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05"/>
              <p:cNvSpPr/>
              <p:nvPr/>
            </p:nvSpPr>
            <p:spPr>
              <a:xfrm rot="17176200">
                <a:off x="295200" y="1117440"/>
                <a:ext cx="193680" cy="11232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06"/>
              <p:cNvSpPr/>
              <p:nvPr/>
            </p:nvSpPr>
            <p:spPr>
              <a:xfrm rot="17176200">
                <a:off x="275040" y="1137600"/>
                <a:ext cx="193680" cy="6048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07"/>
              <p:cNvSpPr/>
              <p:nvPr/>
            </p:nvSpPr>
            <p:spPr>
              <a:xfrm rot="17176200">
                <a:off x="322200" y="1215360"/>
                <a:ext cx="57600" cy="3492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08"/>
              <p:cNvSpPr/>
              <p:nvPr/>
            </p:nvSpPr>
            <p:spPr>
              <a:xfrm rot="17176200">
                <a:off x="316080" y="1216800"/>
                <a:ext cx="56880" cy="1836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09"/>
              <p:cNvSpPr/>
              <p:nvPr/>
            </p:nvSpPr>
            <p:spPr>
              <a:xfrm rot="17176200">
                <a:off x="282240" y="853920"/>
                <a:ext cx="409320" cy="14760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10"/>
              <p:cNvSpPr/>
              <p:nvPr/>
            </p:nvSpPr>
            <p:spPr>
              <a:xfrm rot="17176200">
                <a:off x="293760" y="880560"/>
                <a:ext cx="440280" cy="169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11"/>
              <p:cNvSpPr/>
              <p:nvPr/>
            </p:nvSpPr>
            <p:spPr>
              <a:xfrm rot="17176200">
                <a:off x="321840" y="967320"/>
                <a:ext cx="427320" cy="14328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12"/>
              <p:cNvSpPr/>
              <p:nvPr/>
            </p:nvSpPr>
            <p:spPr>
              <a:xfrm rot="17176200">
                <a:off x="556560" y="761400"/>
                <a:ext cx="132840" cy="10548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13"/>
              <p:cNvSpPr/>
              <p:nvPr/>
            </p:nvSpPr>
            <p:spPr>
              <a:xfrm rot="17176200">
                <a:off x="565200" y="737640"/>
                <a:ext cx="100800" cy="7992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14"/>
              <p:cNvSpPr/>
              <p:nvPr/>
            </p:nvSpPr>
            <p:spPr>
              <a:xfrm rot="17176200">
                <a:off x="571680" y="747720"/>
                <a:ext cx="48600" cy="3024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文本框 1"/>
          <p:cNvSpPr/>
          <p:nvPr/>
        </p:nvSpPr>
        <p:spPr>
          <a:xfrm>
            <a:off x="440280" y="1370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"/>
          <p:cNvSpPr/>
          <p:nvPr/>
        </p:nvSpPr>
        <p:spPr>
          <a:xfrm>
            <a:off x="1197000" y="1370160"/>
            <a:ext cx="18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ｑ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ì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"/>
          <p:cNvSpPr/>
          <p:nvPr/>
        </p:nvSpPr>
        <p:spPr>
          <a:xfrm>
            <a:off x="2733840" y="137016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4"/>
          <p:cNvSpPr/>
          <p:nvPr/>
        </p:nvSpPr>
        <p:spPr>
          <a:xfrm>
            <a:off x="3198960" y="1370160"/>
            <a:ext cx="22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ǎ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ｎ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5"/>
          <p:cNvSpPr/>
          <p:nvPr/>
        </p:nvSpPr>
        <p:spPr>
          <a:xfrm>
            <a:off x="5121360" y="1370160"/>
            <a:ext cx="21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悲天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6"/>
          <p:cNvSpPr/>
          <p:nvPr/>
        </p:nvSpPr>
        <p:spPr>
          <a:xfrm>
            <a:off x="6878520" y="1370160"/>
            <a:ext cx="18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ｍ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ǐ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ｎ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7"/>
          <p:cNvSpPr/>
          <p:nvPr/>
        </p:nvSpPr>
        <p:spPr>
          <a:xfrm>
            <a:off x="491400" y="2120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莫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8"/>
          <p:cNvSpPr/>
          <p:nvPr/>
        </p:nvSpPr>
        <p:spPr>
          <a:xfrm>
            <a:off x="1341360" y="2120760"/>
            <a:ext cx="17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9"/>
          <p:cNvSpPr/>
          <p:nvPr/>
        </p:nvSpPr>
        <p:spPr>
          <a:xfrm>
            <a:off x="244440" y="2685960"/>
            <a:ext cx="19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达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0"/>
          <p:cNvSpPr/>
          <p:nvPr/>
        </p:nvSpPr>
        <p:spPr>
          <a:xfrm>
            <a:off x="1405080" y="2685960"/>
            <a:ext cx="47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不如意的事情看得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2"/>
          <p:cNvSpPr/>
          <p:nvPr/>
        </p:nvSpPr>
        <p:spPr>
          <a:xfrm>
            <a:off x="254160" y="3255840"/>
            <a:ext cx="17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契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13"/>
          <p:cNvSpPr/>
          <p:nvPr/>
        </p:nvSpPr>
        <p:spPr>
          <a:xfrm>
            <a:off x="1341360" y="3255840"/>
            <a:ext cx="72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证明出卖、抵押、租赁等关系的文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4"/>
          <p:cNvSpPr/>
          <p:nvPr/>
        </p:nvSpPr>
        <p:spPr>
          <a:xfrm>
            <a:off x="244440" y="3805200"/>
            <a:ext cx="23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任重道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15"/>
          <p:cNvSpPr/>
          <p:nvPr/>
        </p:nvSpPr>
        <p:spPr>
          <a:xfrm>
            <a:off x="2155680" y="3789360"/>
            <a:ext cx="63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任务繁重，道路遥远。比喻责任重大而艰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6"/>
          <p:cNvSpPr/>
          <p:nvPr/>
        </p:nvSpPr>
        <p:spPr>
          <a:xfrm>
            <a:off x="244440" y="4786200"/>
            <a:ext cx="23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死而后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9"/>
          <p:cNvSpPr/>
          <p:nvPr/>
        </p:nvSpPr>
        <p:spPr>
          <a:xfrm>
            <a:off x="2092320" y="4786200"/>
            <a:ext cx="67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死了以后才停止。指奋斗到死为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72"/>
          <p:cNvSpPr/>
          <p:nvPr/>
        </p:nvSpPr>
        <p:spPr>
          <a:xfrm>
            <a:off x="254160" y="5342040"/>
            <a:ext cx="25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仁人志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73"/>
          <p:cNvSpPr/>
          <p:nvPr/>
        </p:nvSpPr>
        <p:spPr>
          <a:xfrm>
            <a:off x="2124000" y="5373720"/>
            <a:ext cx="63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仁爱之心的人，品德高尚有志向有抱负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482760" y="701640"/>
            <a:ext cx="53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朗读课文并填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642960" y="16336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人生最大的痛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89040" y="2265480"/>
            <a:ext cx="53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人生最大的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719280" y="1547640"/>
            <a:ext cx="14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负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684360" y="2176560"/>
            <a:ext cx="19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尽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647640" y="2935440"/>
            <a:ext cx="68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生当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而不能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2338560" y="2862360"/>
            <a:ext cx="26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勇于承担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2413080" y="3560760"/>
            <a:ext cx="19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逃避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43080" y="4503600"/>
            <a:ext cx="75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用最精练的语言概括中心论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8"/>
          <p:cNvSpPr txBox="1"/>
          <p:nvPr/>
        </p:nvSpPr>
        <p:spPr>
          <a:xfrm>
            <a:off x="1093680" y="5299200"/>
            <a:ext cx="67500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ln w="0">
                  <a:noFill/>
                </a:ln>
                <a:solidFill>
                  <a:srgbClr val="990000">
                    <a:alpha val="99000"/>
                  </a:srgbClr>
                </a:solidFill>
                <a:latin typeface="+mn-ea"/>
              </a:rPr>
              <a:t>“</a:t>
            </a:r>
            <a:r>
              <a:rPr b="0" i="1" lang="zh-CN" sz="4800" spc="-1" strike="noStrike">
                <a:ln w="0">
                  <a:noFill/>
                </a:ln>
                <a:solidFill>
                  <a:srgbClr val="990000">
                    <a:alpha val="99000"/>
                  </a:srgbClr>
                </a:solidFill>
                <a:latin typeface="+mn-ea"/>
              </a:rPr>
              <a:t>负责任最苦，尽责任最乐”</a:t>
            </a:r>
            <a:endParaRPr b="0" i="1" lang="en-US" sz="4800" spc="-1" strike="noStrike">
              <a:ln w="0">
                <a:noFill/>
              </a:ln>
              <a:solidFill>
                <a:srgbClr val="990000">
                  <a:alpha val="99000"/>
                </a:srgbClr>
              </a:solidFill>
              <a:latin typeface="+mn-ea"/>
              <a:ea typeface="+mn-ea"/>
            </a:endParaRPr>
          </a:p>
        </p:txBody>
      </p:sp>
      <p:pic>
        <p:nvPicPr>
          <p:cNvPr id="368" name="图片 1" descr="4872be6de46cce31d96b4ba09e19601c"/>
          <p:cNvPicPr/>
          <p:nvPr/>
        </p:nvPicPr>
        <p:blipFill>
          <a:blip r:embed="rId1"/>
          <a:stretch/>
        </p:blipFill>
        <p:spPr>
          <a:xfrm>
            <a:off x="6105600" y="1035000"/>
            <a:ext cx="222552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"/>
          <p:cNvSpPr/>
          <p:nvPr/>
        </p:nvSpPr>
        <p:spPr>
          <a:xfrm>
            <a:off x="399960" y="399960"/>
            <a:ext cx="388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隶书"/>
                <a:ea typeface="隶书"/>
              </a:rPr>
              <a:t>理清结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2"/>
          <p:cNvSpPr/>
          <p:nvPr/>
        </p:nvSpPr>
        <p:spPr>
          <a:xfrm>
            <a:off x="498600" y="319104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一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(1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-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段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3"/>
          <p:cNvSpPr/>
          <p:nvPr/>
        </p:nvSpPr>
        <p:spPr>
          <a:xfrm>
            <a:off x="900000" y="37069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论“负责任是人生最大的痛苦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4"/>
          <p:cNvSpPr/>
          <p:nvPr/>
        </p:nvSpPr>
        <p:spPr>
          <a:xfrm>
            <a:off x="498600" y="446868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二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段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900000" y="4984920"/>
            <a:ext cx="72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论“尽责任是人生最大的快乐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6"/>
          <p:cNvSpPr/>
          <p:nvPr/>
        </p:nvSpPr>
        <p:spPr>
          <a:xfrm>
            <a:off x="498600" y="576252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三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--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段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7"/>
          <p:cNvSpPr/>
          <p:nvPr/>
        </p:nvSpPr>
        <p:spPr>
          <a:xfrm>
            <a:off x="3203640" y="5734080"/>
            <a:ext cx="53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论“人生当勇于尽责任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314280" y="121752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文章可以分为几部分？请分别概括其主要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2" descr="60e75e7f70dc4970a0c2edb95cf32ed2_th"/>
          <p:cNvPicPr/>
          <p:nvPr/>
        </p:nvPicPr>
        <p:blipFill>
          <a:blip r:embed="rId1"/>
          <a:stretch/>
        </p:blipFill>
        <p:spPr>
          <a:xfrm>
            <a:off x="5003640" y="511200"/>
            <a:ext cx="3537000" cy="3002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1"/>
          <p:cNvSpPr/>
          <p:nvPr/>
        </p:nvSpPr>
        <p:spPr>
          <a:xfrm>
            <a:off x="307800" y="614520"/>
            <a:ext cx="29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隶书"/>
                <a:ea typeface="隶书"/>
              </a:rPr>
              <a:t>(</a:t>
            </a:r>
            <a:r>
              <a:rPr b="1" lang="zh-CN" sz="5400" spc="-1" strike="noStrike">
                <a:solidFill>
                  <a:srgbClr val="7030a0"/>
                </a:solidFill>
                <a:latin typeface="隶书"/>
                <a:ea typeface="隶书"/>
              </a:rPr>
              <a:t>一</a:t>
            </a:r>
            <a:r>
              <a:rPr b="1" lang="en-US" sz="5400" spc="-1" strike="noStrike">
                <a:solidFill>
                  <a:srgbClr val="7030a0"/>
                </a:solidFill>
                <a:latin typeface="隶书"/>
                <a:ea typeface="隶书"/>
              </a:rPr>
              <a:t>)</a:t>
            </a:r>
            <a:r>
              <a:rPr b="1" lang="zh-CN" sz="5400" spc="-1" strike="noStrike">
                <a:solidFill>
                  <a:srgbClr val="7030a0"/>
                </a:solidFill>
                <a:latin typeface="隶书"/>
                <a:ea typeface="隶书"/>
              </a:rPr>
              <a:t>谈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Text Box 4" descr=""/>
          <p:cNvPicPr/>
          <p:nvPr/>
        </p:nvPicPr>
        <p:blipFill>
          <a:blip r:embed="rId1"/>
          <a:stretch/>
        </p:blipFill>
        <p:spPr>
          <a:xfrm>
            <a:off x="469800" y="2130480"/>
            <a:ext cx="8396280" cy="32004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12"/>
          <p:cNvSpPr/>
          <p:nvPr/>
        </p:nvSpPr>
        <p:spPr>
          <a:xfrm>
            <a:off x="379440" y="157320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根据课文内容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6299280" y="2381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知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6605640" y="3197160"/>
            <a:ext cx="121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安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7516800" y="390672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达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7416720" y="46418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责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" descr="a10595742_s"/>
          <p:cNvPicPr/>
          <p:nvPr/>
        </p:nvPicPr>
        <p:blipFill>
          <a:blip r:embed="rId2"/>
          <a:stretch/>
        </p:blipFill>
        <p:spPr>
          <a:xfrm>
            <a:off x="528480" y="3063960"/>
            <a:ext cx="2260800" cy="3014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316080" y="6634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为什么“身上背着一种未了的责任”最苦呢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590400" y="2127240"/>
            <a:ext cx="5637240" cy="75168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因为受良心责备，无处逃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16080" y="3451320"/>
            <a:ext cx="571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作者举了哪些例子来证明自己的观点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590400" y="4937040"/>
            <a:ext cx="8107560" cy="140940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个人对他人的责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承诺未完、欠人钱、受人恩惠、得罪人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图片 1" descr="1428281485377418.jpg!editor"/>
          <p:cNvPicPr/>
          <p:nvPr/>
        </p:nvPicPr>
        <p:blipFill>
          <a:blip r:embed="rId1"/>
          <a:stretch/>
        </p:blipFill>
        <p:spPr>
          <a:xfrm>
            <a:off x="6251400" y="1349280"/>
            <a:ext cx="2430720" cy="345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8-04-24T11:54:19Z</dcterms:modified>
  <cp:revision>1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11</vt:lpwstr>
  </property>
</Properties>
</file>